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5DA-227B-42B4-B687-AFC5A351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345-915D-4DE1-AC9A-A0C95A7B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37F-A3E4-4420-B439-C0968B7B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6A3-28DE-489A-9D4C-FBB6E8FA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E3F-0239-4F2C-B6E3-147B1E31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DBB-90C6-4C1A-BD91-463CEC29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75D-9A3F-4E4F-9080-241DC6E2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3A9-9D5C-41BA-B1B2-6D552BF9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A2D-9094-4552-A74F-1FE100AD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B99-D2E3-4E65-87B0-40471CF1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57E-1301-4E8E-AA5E-EA81BC5C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F9E-98D1-4334-8300-C1581403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1531-BA6E-45EA-84B5-6B79359943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roduction to regress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3D. Interpretation, interpolation, and extrapol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erpreting slope and intercep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slope (m) of a regression line indicates the rate at which data is increasing or decreasing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 y-intercept indicates the approximate value of the data when x=0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3D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erpolation and extrapol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Remember that a regression line is an estimate of the true relationship between two variabl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But, the regression line is used to mak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prediction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bout the data se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two types of prediction are called interpolation and extrapolatio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erpol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nterpolation predicts values between two values already in the data se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the data is very linear (r near +1 or -1) then we know the interpolated point is quite accurat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trapol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trapolation predicts values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maller than the smallest valu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lready in the data set or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larger than the largest valu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wo problem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t may not be reasonable to extrapolate too far away from the given data valu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data may be linear in a narrow band of the given data se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Generally, interpolations are more reliable than extrapolations. But remember, our confidence depends on the correlation coefficient (r)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: Ex 3D: 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: 2, 5, 7, 8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1:30:14Z</dcterms:created>
  <dc:creator>08843474</dc:creator>
  <dc:description/>
  <dc:language>en-US</dc:language>
  <cp:lastModifiedBy>08843474</cp:lastModifiedBy>
  <dcterms:modified xsi:type="dcterms:W3CDTF">2011-03-10T00:40:05Z</dcterms:modified>
  <cp:revision>4</cp:revision>
  <dc:subject/>
  <dc:title>Introduction to regression</dc:title>
</cp:coreProperties>
</file>